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199313" cy="104394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F667-8809-48BF-B47C-C5F66972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64800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6035400"/>
            <a:ext cx="64800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9B9-4F25-423D-8B35-EF85CC7D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0640" y="243684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603540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0640" y="603540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C6B-C8FD-4686-9BC8-068DDF26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20862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1320" y="2436840"/>
            <a:ext cx="20862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2280" y="2436840"/>
            <a:ext cx="20862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6035400"/>
            <a:ext cx="20862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1320" y="6035400"/>
            <a:ext cx="20862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2280" y="6035400"/>
            <a:ext cx="20862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F9C-F71A-4F63-B3A4-021CDA75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2436840"/>
            <a:ext cx="6480000" cy="68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93F-89AF-4AF0-9E4E-D4E5A262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6480000" cy="688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6E1-F7EF-4504-81A1-6FF6AE83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3161880" cy="688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0640" y="2436840"/>
            <a:ext cx="3161880" cy="688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B1B-461E-484D-8E3D-FCB8446B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444-7A60-4D5A-8B87-3791A7F7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418680"/>
            <a:ext cx="6480000" cy="80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3B2-A8D4-43D6-A14D-4517A78B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0640" y="2436840"/>
            <a:ext cx="3161880" cy="688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603540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048-0872-4209-8689-CF7BC4F3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3161880" cy="688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0640" y="243684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0640" y="603540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87D-AA28-479B-9D7E-FE757E22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243684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0640" y="2436840"/>
            <a:ext cx="316188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6035400"/>
            <a:ext cx="6480000" cy="32860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D18-CE00-4A5E-BC37-E6871FA8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418680"/>
            <a:ext cx="6480000" cy="17398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2436840"/>
            <a:ext cx="6480000" cy="68896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rmAutofit/>
          </a:bodyPr>
          <a:p>
            <a:pPr marL="360360" indent="-3603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002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3480" indent="-2415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84440" indent="-241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000" y="9507240"/>
            <a:ext cx="1679400" cy="7254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0600" y="9507240"/>
            <a:ext cx="2279520" cy="7254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0600" y="9507240"/>
            <a:ext cx="1679400" cy="7254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7916-B479-4D51-873F-090E50FFCB81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62080" y="3335400"/>
            <a:ext cx="5000760" cy="3257640"/>
          </a:xfrm>
          <a:prstGeom prst="rect">
            <a:avLst/>
          </a:prstGeom>
          <a:ln w="0">
            <a:noFill/>
          </a:ln>
        </p:spPr>
      </p:pic>
      <p:sp>
        <p:nvSpPr>
          <p:cNvPr id="42" name="角丸四角形 4"/>
          <p:cNvSpPr/>
          <p:nvPr/>
        </p:nvSpPr>
        <p:spPr>
          <a:xfrm>
            <a:off x="1467000" y="3868560"/>
            <a:ext cx="6858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線矢印コネクタ 6"/>
          <p:cNvCxnSpPr>
            <a:endCxn id="42" idx="0"/>
          </p:cNvCxnSpPr>
          <p:nvPr/>
        </p:nvCxnSpPr>
        <p:spPr>
          <a:xfrm flipH="1">
            <a:off x="1809720" y="2725200"/>
            <a:ext cx="80028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テキスト ボックス 7"/>
          <p:cNvSpPr/>
          <p:nvPr/>
        </p:nvSpPr>
        <p:spPr>
          <a:xfrm>
            <a:off x="2709720" y="2421000"/>
            <a:ext cx="34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ここをクリックして</a:t>
            </a:r>
            <a:r>
              <a:rPr b="0" lang="ja-JP" sz="2800" spc="-1" strike="noStrike">
                <a:solidFill>
                  <a:srgbClr val="ff0000"/>
                </a:solidFill>
                <a:latin typeface="Arial"/>
              </a:rPr>
              <a:t>開始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す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7"/>
          <p:cNvSpPr/>
          <p:nvPr/>
        </p:nvSpPr>
        <p:spPr>
          <a:xfrm>
            <a:off x="857160" y="925560"/>
            <a:ext cx="5486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推奨解像度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24×7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ほかの解像度では、うまく表示されない場合があり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7"/>
          <p:cNvSpPr/>
          <p:nvPr/>
        </p:nvSpPr>
        <p:spPr>
          <a:xfrm>
            <a:off x="1173240" y="7431120"/>
            <a:ext cx="498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グラムを</a:t>
            </a: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終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するに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0000"/>
                </a:solidFill>
                <a:latin typeface="Arial"/>
              </a:rPr>
              <a:t>　　　　　　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キーを押して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467000" y="115920"/>
            <a:ext cx="43812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1" lang="ja-JP" sz="38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説明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main"/>
          <p:cNvPicPr/>
          <p:nvPr/>
        </p:nvPicPr>
        <p:blipFill>
          <a:blip r:embed="rId1"/>
          <a:stretch/>
        </p:blipFill>
        <p:spPr>
          <a:xfrm>
            <a:off x="1009800" y="4078440"/>
            <a:ext cx="2327040" cy="1536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essage"/>
          <p:cNvPicPr/>
          <p:nvPr/>
        </p:nvPicPr>
        <p:blipFill>
          <a:blip r:embed="rId2"/>
          <a:stretch/>
        </p:blipFill>
        <p:spPr>
          <a:xfrm>
            <a:off x="1527120" y="7719840"/>
            <a:ext cx="1920960" cy="1159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>
            <a:off x="2943360" y="2859120"/>
            <a:ext cx="126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今の画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1798560" y="5810400"/>
            <a:ext cx="8794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画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4702320" y="5810400"/>
            <a:ext cx="8794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画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2000160" y="8879040"/>
            <a:ext cx="87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画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4549680" y="8955000"/>
            <a:ext cx="87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画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324000" y="613584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テストは画面</a:t>
            </a:r>
            <a:r>
              <a:rPr b="0" lang="en-US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と４を繰り返して行ないます。まず、画面</a:t>
            </a:r>
            <a:r>
              <a:rPr b="0" lang="en-US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真ん中に不完全な文字が一瞬だけ表示されます。そして出てくる画面</a:t>
            </a:r>
            <a:r>
              <a:rPr b="0" lang="en-US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でその文字を押して</a:t>
            </a:r>
            <a:r>
              <a:rPr b="0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「</a:t>
            </a:r>
            <a:r>
              <a:rPr b="1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決定</a:t>
            </a:r>
            <a:r>
              <a:rPr b="0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」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ボタンを押してください。分からない場合は、</a:t>
            </a:r>
            <a:r>
              <a:rPr b="0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「</a:t>
            </a:r>
            <a:r>
              <a:rPr b="1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わからない</a:t>
            </a:r>
            <a:r>
              <a:rPr b="0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」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ボタンを押してください。すると、画面</a:t>
            </a:r>
            <a:r>
              <a:rPr b="0" lang="en-US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3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に戻って、次の文字が表示されます。</a:t>
            </a: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出来るだけ</a:t>
            </a:r>
            <a:r>
              <a:rPr b="1" lang="ja-JP" sz="2400" spc="-1" strike="noStrike" u="sng">
                <a:solidFill>
                  <a:srgbClr val="ff0000"/>
                </a:solidFill>
                <a:uFillTx/>
                <a:latin typeface="HG丸ｺﾞｼｯｸM-PRO"/>
                <a:ea typeface="HG丸ｺﾞｼｯｸM-PRO"/>
              </a:rPr>
              <a:t>速く、正確に</a:t>
            </a:r>
            <a:r>
              <a:rPr b="1" lang="ja-JP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ボタンを押して答えてくださ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324000" y="9207360"/>
            <a:ext cx="64767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テストには三つのレベルの不完全な文字があります。</a:t>
            </a:r>
            <a:r>
              <a:rPr b="0" lang="en-US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1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つのレベルが終わると画面５が出ます。</a:t>
            </a:r>
            <a:r>
              <a:rPr b="0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「</a:t>
            </a:r>
            <a:r>
              <a:rPr b="1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はい</a:t>
            </a:r>
            <a:r>
              <a:rPr b="0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」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ボタンを押すと、次のレベルに行き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三つのレベルが終了したら、画面</a:t>
            </a:r>
            <a:r>
              <a:rPr b="0" lang="en-US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6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で、貴方の</a:t>
            </a:r>
            <a:r>
              <a:rPr b="1" lang="ja-JP" sz="15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測定結果</a:t>
            </a: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が表示されま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324000" y="3087720"/>
            <a:ext cx="6476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「練習開始」ボタンを押して、１回練習して、「測定開始」ボタンを押して測定を始めましょう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0" descr="K"/>
          <p:cNvPicPr/>
          <p:nvPr/>
        </p:nvPicPr>
        <p:blipFill>
          <a:blip r:embed="rId3"/>
          <a:stretch/>
        </p:blipFill>
        <p:spPr>
          <a:xfrm>
            <a:off x="2000160" y="468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4"/>
          <a:stretch/>
        </p:blipFill>
        <p:spPr>
          <a:xfrm>
            <a:off x="2228760" y="934920"/>
            <a:ext cx="2795760" cy="1847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5" descr=""/>
          <p:cNvPicPr/>
          <p:nvPr/>
        </p:nvPicPr>
        <p:blipFill>
          <a:blip r:embed="rId5"/>
          <a:stretch/>
        </p:blipFill>
        <p:spPr>
          <a:xfrm>
            <a:off x="4057560" y="4078440"/>
            <a:ext cx="2003400" cy="1538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6" descr=""/>
          <p:cNvPicPr/>
          <p:nvPr/>
        </p:nvPicPr>
        <p:blipFill>
          <a:blip r:embed="rId6"/>
          <a:stretch/>
        </p:blipFill>
        <p:spPr>
          <a:xfrm>
            <a:off x="4210200" y="7734240"/>
            <a:ext cx="166356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右矢印 24"/>
          <p:cNvSpPr/>
          <p:nvPr/>
        </p:nvSpPr>
        <p:spPr>
          <a:xfrm>
            <a:off x="3448080" y="4535640"/>
            <a:ext cx="457200" cy="228600"/>
          </a:xfrm>
          <a:prstGeom prst="rightArrow">
            <a:avLst>
              <a:gd name="adj1" fmla="val 50000"/>
              <a:gd name="adj2" fmla="val 6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右矢印 28"/>
          <p:cNvSpPr/>
          <p:nvPr/>
        </p:nvSpPr>
        <p:spPr>
          <a:xfrm flipH="1">
            <a:off x="3448080" y="4992840"/>
            <a:ext cx="457200" cy="228600"/>
          </a:xfrm>
          <a:prstGeom prst="rightArrow">
            <a:avLst>
              <a:gd name="adj1" fmla="val 50000"/>
              <a:gd name="adj2" fmla="val 6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inlai jiang</cp:lastModifiedBy>
  <dcterms:modified xsi:type="dcterms:W3CDTF">2014-07-14T04:14:3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